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7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DA42-0EAC-4D1B-A204-8969C8281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8A7A-7DD0-45C1-AC12-05E374231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DFD5-945A-4435-AA62-E5AEBD212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BAA3-9DC5-4221-AC1E-34B5345B2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33B1-2258-4D32-83CA-F60B7AB58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968D-8C56-4DA3-8051-7F25B2BB5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E120-C25A-4856-A22A-CF70E21E5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BAC9-1755-427D-B905-E60BC782E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A08B-C919-4185-A12F-569275828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8238-FE8D-4544-A300-793E8E7E6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1ADF-779B-498D-9407-2758ABFB1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06E3-BCF1-4A53-A61E-597923DDD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756D6-79CC-44BC-A55E-8746E1A74F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arded Drag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Madr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topic is bearded Dragons. Beardies are common pets and are very doci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1" descr="L"/>
          <p:cNvPicPr/>
          <p:nvPr/>
        </p:nvPicPr>
        <p:blipFill>
          <a:blip r:embed="rId1"/>
          <a:stretch/>
        </p:blipFill>
        <p:spPr>
          <a:xfrm>
            <a:off x="5105520" y="175248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 About Bearded liz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ardies originally come from Austral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very cute, but when there mad they can be sc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 should know, I'm one of them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48320" y="1447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cosmo"/>
          <p:cNvPicPr/>
          <p:nvPr/>
        </p:nvPicPr>
        <p:blipFill>
          <a:blip r:embed="rId1"/>
          <a:stretch/>
        </p:blipFill>
        <p:spPr>
          <a:xfrm>
            <a:off x="5105520" y="1981080"/>
            <a:ext cx="36576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Bearded Dragons E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arded dragons eat veggies such as kale, squash, etc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lso eat bugs (EW!!) such as crickets, wax worms, super worms, etc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MC900154188[1]"/>
          <p:cNvPicPr/>
          <p:nvPr/>
        </p:nvPicPr>
        <p:blipFill>
          <a:blip r:embed="rId1"/>
          <a:stretch/>
        </p:blipFill>
        <p:spPr>
          <a:xfrm>
            <a:off x="5402160" y="1828800"/>
            <a:ext cx="26751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iology of Dig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arded dragon feces is the size of chihuahua po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the white stuff? That's 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ate is  their p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a mushy sol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Content Placeholder 4" descr=""/>
          <p:cNvPicPr/>
          <p:nvPr/>
        </p:nvPicPr>
        <p:blipFill>
          <a:blip r:embed="rId1"/>
          <a:srcRect l="48051" t="32052" r="29310" b="37359"/>
          <a:stretch/>
        </p:blipFill>
        <p:spPr>
          <a:xfrm>
            <a:off x="5105520" y="2133720"/>
            <a:ext cx="33066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ictures of Bearded lizards!!!(which are awsome!!!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Rectangle 3" descr=""/>
          <p:cNvPicPr/>
          <p:nvPr/>
        </p:nvPicPr>
        <p:blipFill>
          <a:blip r:embed="rId2"/>
          <a:stretch/>
        </p:blipFill>
        <p:spPr>
          <a:xfrm>
            <a:off x="3657600" y="2895480"/>
            <a:ext cx="1812960" cy="10335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1295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1295280" y="1523880"/>
            <a:ext cx="1371600" cy="12193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6553080" y="1676520"/>
            <a:ext cx="1600200" cy="1330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7086600" y="4724280"/>
            <a:ext cx="1638360" cy="14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bearded dragon typed this 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Content Placeholder 3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0T15:22:58Z</dcterms:created>
  <dc:creator>Yellow Springs Exempted Village School District</dc:creator>
  <dc:description/>
  <dc:language>en-US</dc:language>
  <cp:lastModifiedBy>Yellow Springs Exempted Village School District</cp:lastModifiedBy>
  <dcterms:modified xsi:type="dcterms:W3CDTF">2011-11-30T18:58:25Z</dcterms:modified>
  <cp:revision>22</cp:revision>
  <dc:subject/>
  <dc:title>Bearded Dragon’s</dc:title>
</cp:coreProperties>
</file>